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98CC-A391-423E-A6DA-6E72FD66C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65BE-00A7-41EA-97B1-176063F9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8B07-0B6F-44D9-A1EB-590C17C5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355-F6C3-42B6-90E7-9F9D17FD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9DA7-AEA9-422A-8C39-82CF787B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E2D7-C977-420D-888E-ACF4BCDA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D11A-E994-4275-884D-0D191E62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C393-D647-43EC-B118-218327BE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35EA-3E66-47F6-9B0F-EAF32CDA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0C25-600D-4E72-B8E9-9E724833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DD22-A8D5-4EB8-BFD0-E1FEFB49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8B7A-5EDD-4211-9E0D-F621DB32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8BAF-1096-433D-8E97-8A83EEE31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15000" y="27367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69880" y="4392720"/>
            <a:ext cx="1636920" cy="1007640"/>
            <a:chOff x="569880" y="4392720"/>
            <a:chExt cx="1636920" cy="1007640"/>
          </a:xfrm>
        </p:grpSpPr>
        <p:sp>
          <p:nvSpPr>
            <p:cNvPr id="43" name=""/>
            <p:cNvSpPr/>
            <p:nvPr/>
          </p:nvSpPr>
          <p:spPr>
            <a:xfrm>
              <a:off x="569880" y="4392720"/>
              <a:ext cx="1636920" cy="769680"/>
            </a:xfrm>
            <a:custGeom>
              <a:avLst/>
              <a:gdLst>
                <a:gd name="textAreaLeft" fmla="*/ 232200 w 1636920"/>
                <a:gd name="textAreaRight" fmla="*/ 1404720 w 1636920"/>
                <a:gd name="textAreaTop" fmla="*/ 109080 h 769680"/>
                <a:gd name="textAreaBottom" fmla="*/ 660600 h 76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31" y="21600"/>
                  </a:lnTo>
                  <a:lnTo>
                    <a:pt x="2369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864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7420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29880" y="5616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0840" y="5688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920" y="28004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conces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478480" y="855720"/>
            <a:ext cx="1326600" cy="1655640"/>
            <a:chOff x="5478480" y="855720"/>
            <a:chExt cx="1326600" cy="1655640"/>
          </a:xfrm>
        </p:grpSpPr>
        <p:sp>
          <p:nvSpPr>
            <p:cNvPr id="50" name=""/>
            <p:cNvSpPr/>
            <p:nvPr/>
          </p:nvSpPr>
          <p:spPr>
            <a:xfrm>
              <a:off x="5478480" y="855720"/>
              <a:ext cx="1326600" cy="16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72880" y="1144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72880" y="1360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72880" y="1576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72880" y="1792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9160" y="2224080"/>
              <a:ext cx="31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68480" y="4824360"/>
            <a:ext cx="1793520" cy="447480"/>
            <a:chOff x="2868480" y="4824360"/>
            <a:chExt cx="1793520" cy="447480"/>
          </a:xfrm>
        </p:grpSpPr>
        <p:sp>
          <p:nvSpPr>
            <p:cNvPr id="57" name=""/>
            <p:cNvSpPr/>
            <p:nvPr/>
          </p:nvSpPr>
          <p:spPr>
            <a:xfrm>
              <a:off x="2868480" y="4824360"/>
              <a:ext cx="1132920" cy="28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7800" y="4897440"/>
              <a:ext cx="513360" cy="215640"/>
            </a:xfrm>
            <a:custGeom>
              <a:avLst/>
              <a:gdLst/>
              <a:ahLst/>
              <a:rect l="l" t="t" r="r" b="b"/>
              <a:pathLst>
                <a:path w="680" h="138">
                  <a:moveTo>
                    <a:pt x="0" y="63"/>
                  </a:moveTo>
                  <a:cubicBezTo>
                    <a:pt x="26" y="24"/>
                    <a:pt x="53" y="21"/>
                    <a:pt x="96" y="7"/>
                  </a:cubicBezTo>
                  <a:cubicBezTo>
                    <a:pt x="131" y="10"/>
                    <a:pt x="168" y="0"/>
                    <a:pt x="200" y="15"/>
                  </a:cubicBezTo>
                  <a:cubicBezTo>
                    <a:pt x="215" y="22"/>
                    <a:pt x="207" y="49"/>
                    <a:pt x="216" y="63"/>
                  </a:cubicBezTo>
                  <a:cubicBezTo>
                    <a:pt x="243" y="103"/>
                    <a:pt x="323" y="99"/>
                    <a:pt x="360" y="103"/>
                  </a:cubicBezTo>
                  <a:cubicBezTo>
                    <a:pt x="413" y="138"/>
                    <a:pt x="604" y="135"/>
                    <a:pt x="680" y="13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394880" y="4944600"/>
              <a:ext cx="8604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33480" y="4901760"/>
              <a:ext cx="561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379760" y="5160960"/>
              <a:ext cx="824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9880" y="5165640"/>
              <a:ext cx="59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8600" y="510840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950560" y="593640"/>
            <a:ext cx="1701720" cy="2027520"/>
            <a:chOff x="2950560" y="593640"/>
            <a:chExt cx="1701720" cy="2027520"/>
          </a:xfrm>
        </p:grpSpPr>
        <p:sp>
          <p:nvSpPr>
            <p:cNvPr id="65" name=""/>
            <p:cNvSpPr/>
            <p:nvPr/>
          </p:nvSpPr>
          <p:spPr>
            <a:xfrm flipH="1">
              <a:off x="3434400" y="925200"/>
              <a:ext cx="680040" cy="15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231360" y="925200"/>
              <a:ext cx="771480" cy="10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950560" y="744120"/>
              <a:ext cx="4928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8607600">
              <a:off x="3857400" y="1872720"/>
              <a:ext cx="639000" cy="618840"/>
            </a:xfrm>
            <a:custGeom>
              <a:avLst/>
              <a:gdLst/>
              <a:ahLst/>
              <a:rect l="l" t="t" r="r" b="b"/>
              <a:pathLst>
                <a:path w="363" h="499">
                  <a:moveTo>
                    <a:pt x="0" y="499"/>
                  </a:moveTo>
                  <a:lnTo>
                    <a:pt x="46" y="90"/>
                  </a:lnTo>
                  <a:cubicBezTo>
                    <a:pt x="76" y="7"/>
                    <a:pt x="137" y="0"/>
                    <a:pt x="182" y="0"/>
                  </a:cubicBezTo>
                  <a:cubicBezTo>
                    <a:pt x="227" y="0"/>
                    <a:pt x="288" y="7"/>
                    <a:pt x="318" y="90"/>
                  </a:cubicBezTo>
                  <a:lnTo>
                    <a:pt x="363" y="499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793800">
              <a:off x="3962880" y="404640"/>
              <a:ext cx="288720" cy="106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07240" y="4392720"/>
            <a:ext cx="466560" cy="1007640"/>
            <a:chOff x="5907240" y="4392720"/>
            <a:chExt cx="466560" cy="1007640"/>
          </a:xfrm>
        </p:grpSpPr>
        <p:sp>
          <p:nvSpPr>
            <p:cNvPr id="71" name=""/>
            <p:cNvSpPr/>
            <p:nvPr/>
          </p:nvSpPr>
          <p:spPr>
            <a:xfrm>
              <a:off x="5940720" y="4392720"/>
              <a:ext cx="399240" cy="28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40520" y="4680360"/>
              <a:ext cx="0" cy="4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940360" y="5160600"/>
              <a:ext cx="399600" cy="239760"/>
              <a:chOff x="5940360" y="5160600"/>
              <a:chExt cx="399600" cy="23976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5940360" y="5160600"/>
                <a:ext cx="19980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140520" y="5160600"/>
                <a:ext cx="19944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907240" y="487260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517360" y="5564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r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816680" y="4457880"/>
            <a:ext cx="1403280" cy="1368360"/>
            <a:chOff x="7816680" y="4457880"/>
            <a:chExt cx="1403280" cy="1368360"/>
          </a:xfrm>
        </p:grpSpPr>
        <p:sp>
          <p:nvSpPr>
            <p:cNvPr id="79" name=""/>
            <p:cNvSpPr/>
            <p:nvPr/>
          </p:nvSpPr>
          <p:spPr>
            <a:xfrm>
              <a:off x="7971480" y="4602240"/>
              <a:ext cx="15480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08920" y="4602240"/>
              <a:ext cx="15408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16680" y="4457880"/>
              <a:ext cx="1403280" cy="144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021880" y="58975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1440" y="1135440"/>
            <a:ext cx="1837440" cy="951840"/>
            <a:chOff x="451440" y="1135440"/>
            <a:chExt cx="1837440" cy="951840"/>
          </a:xfrm>
        </p:grpSpPr>
        <p:sp>
          <p:nvSpPr>
            <p:cNvPr id="84" name=""/>
            <p:cNvSpPr/>
            <p:nvPr/>
          </p:nvSpPr>
          <p:spPr>
            <a:xfrm>
              <a:off x="1988640" y="1446480"/>
              <a:ext cx="30024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024400">
              <a:off x="48852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999360" y="1693080"/>
              <a:ext cx="897840" cy="394200"/>
              <a:chOff x="999360" y="1693080"/>
              <a:chExt cx="897840" cy="394200"/>
            </a:xfrm>
          </p:grpSpPr>
          <p:sp>
            <p:nvSpPr>
              <p:cNvPr id="87" name=""/>
              <p:cNvSpPr/>
              <p:nvPr/>
            </p:nvSpPr>
            <p:spPr>
              <a:xfrm>
                <a:off x="99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7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5987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7840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48520" y="1150920"/>
              <a:ext cx="1199880" cy="739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880" y="1200600"/>
              <a:ext cx="539640" cy="44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771200">
              <a:off x="90828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8280" y="139860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280" y="134856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026720" y="2374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4960" y="2808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elsverg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853400" y="855720"/>
            <a:ext cx="1326960" cy="1944720"/>
            <a:chOff x="7853400" y="855720"/>
            <a:chExt cx="1326960" cy="1944720"/>
          </a:xfrm>
        </p:grpSpPr>
        <p:sp>
          <p:nvSpPr>
            <p:cNvPr id="99" name=""/>
            <p:cNvSpPr/>
            <p:nvPr/>
          </p:nvSpPr>
          <p:spPr>
            <a:xfrm>
              <a:off x="8574120" y="2297160"/>
              <a:ext cx="431640" cy="503280"/>
            </a:xfrm>
            <a:custGeom>
              <a:avLst/>
              <a:gdLst/>
              <a:ahLst/>
              <a:rect l="l" t="t" r="r" b="b"/>
              <a:pathLst>
                <a:path w="272" h="317">
                  <a:moveTo>
                    <a:pt x="0" y="0"/>
                  </a:moveTo>
                  <a:lnTo>
                    <a:pt x="0" y="317"/>
                  </a:lnTo>
                  <a:lnTo>
                    <a:pt x="136" y="226"/>
                  </a:lnTo>
                  <a:lnTo>
                    <a:pt x="272" y="317"/>
                  </a:lnTo>
                  <a:lnTo>
                    <a:pt x="2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53400" y="855720"/>
              <a:ext cx="1326960" cy="1511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48520" y="1647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48520" y="1863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48520" y="1431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4120" y="2081160"/>
              <a:ext cx="431640" cy="43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952880" y="243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2960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2960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56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7652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652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16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856600" y="3438360"/>
            <a:ext cx="974880" cy="1300320"/>
            <a:chOff x="2856600" y="3438360"/>
            <a:chExt cx="974880" cy="1300320"/>
          </a:xfrm>
        </p:grpSpPr>
        <p:sp>
          <p:nvSpPr>
            <p:cNvPr id="114" name=""/>
            <p:cNvSpPr/>
            <p:nvPr/>
          </p:nvSpPr>
          <p:spPr>
            <a:xfrm>
              <a:off x="2856600" y="4492440"/>
              <a:ext cx="97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concess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017520" y="3438360"/>
              <a:ext cx="652320" cy="812880"/>
              <a:chOff x="3017520" y="3438360"/>
              <a:chExt cx="652320" cy="812880"/>
            </a:xfrm>
          </p:grpSpPr>
          <p:sp>
            <p:nvSpPr>
              <p:cNvPr id="116" name=""/>
              <p:cNvSpPr/>
              <p:nvPr/>
            </p:nvSpPr>
            <p:spPr>
              <a:xfrm>
                <a:off x="3017520" y="3438360"/>
                <a:ext cx="652320" cy="812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3280" y="35798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3280" y="36860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13280" y="37922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3280" y="389808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91560" y="4110120"/>
                <a:ext cx="15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697040" y="3342240"/>
            <a:ext cx="912240" cy="1396800"/>
            <a:chOff x="1697040" y="3342240"/>
            <a:chExt cx="912240" cy="1396800"/>
          </a:xfrm>
        </p:grpSpPr>
        <p:sp>
          <p:nvSpPr>
            <p:cNvPr id="123" name=""/>
            <p:cNvSpPr/>
            <p:nvPr/>
          </p:nvSpPr>
          <p:spPr>
            <a:xfrm>
              <a:off x="1697040" y="4492800"/>
              <a:ext cx="91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reedsch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753200" y="3342240"/>
              <a:ext cx="835920" cy="995400"/>
              <a:chOff x="1753200" y="3342240"/>
              <a:chExt cx="835920" cy="99540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1991160" y="3505320"/>
                <a:ext cx="334080" cy="78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1891440" y="3505680"/>
                <a:ext cx="3787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753200" y="3416400"/>
                <a:ext cx="24228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8607600">
                <a:off x="2198880" y="3970440"/>
                <a:ext cx="313920" cy="303480"/>
              </a:xfrm>
              <a:custGeom>
                <a:avLst/>
                <a:gdLst/>
                <a:ahLst/>
                <a:rect l="l" t="t" r="r" b="b"/>
                <a:pathLst>
                  <a:path w="363" h="499">
                    <a:moveTo>
                      <a:pt x="0" y="499"/>
                    </a:moveTo>
                    <a:lnTo>
                      <a:pt x="46" y="90"/>
                    </a:lnTo>
                    <a:cubicBezTo>
                      <a:pt x="76" y="7"/>
                      <a:pt x="137" y="0"/>
                      <a:pt x="182" y="0"/>
                    </a:cubicBezTo>
                    <a:cubicBezTo>
                      <a:pt x="227" y="0"/>
                      <a:pt x="288" y="7"/>
                      <a:pt x="318" y="90"/>
                    </a:cubicBezTo>
                    <a:lnTo>
                      <a:pt x="363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6793800">
                <a:off x="2250720" y="3248640"/>
                <a:ext cx="141480" cy="5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573880" y="3792600"/>
            <a:ext cx="803160" cy="946440"/>
            <a:chOff x="5573880" y="3792600"/>
            <a:chExt cx="803160" cy="946440"/>
          </a:xfrm>
        </p:grpSpPr>
        <p:grpSp>
          <p:nvGrpSpPr>
            <p:cNvPr id="131" name=""/>
            <p:cNvGrpSpPr/>
            <p:nvPr/>
          </p:nvGrpSpPr>
          <p:grpSpPr>
            <a:xfrm>
              <a:off x="5573880" y="3792600"/>
              <a:ext cx="803160" cy="495360"/>
              <a:chOff x="5573880" y="3792600"/>
              <a:chExt cx="803160" cy="495360"/>
            </a:xfrm>
          </p:grpSpPr>
          <p:sp>
            <p:nvSpPr>
              <p:cNvPr id="132" name=""/>
              <p:cNvSpPr/>
              <p:nvPr/>
            </p:nvSpPr>
            <p:spPr>
              <a:xfrm>
                <a:off x="5573880" y="3792600"/>
                <a:ext cx="803160" cy="378360"/>
              </a:xfrm>
              <a:custGeom>
                <a:avLst/>
                <a:gdLst>
                  <a:gd name="textAreaLeft" fmla="*/ 113760 w 803160"/>
                  <a:gd name="textAreaRight" fmla="*/ 689400 w 803160"/>
                  <a:gd name="textAreaTop" fmla="*/ 53640 h 378360"/>
                  <a:gd name="textAreaBottom" fmla="*/ 32472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31" y="21600"/>
                    </a:lnTo>
                    <a:lnTo>
                      <a:pt x="2369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4020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1776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681520" y="44928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k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622920" y="3968640"/>
            <a:ext cx="880920" cy="770400"/>
            <a:chOff x="6622920" y="3968640"/>
            <a:chExt cx="880920" cy="770400"/>
          </a:xfrm>
        </p:grpSpPr>
        <p:sp>
          <p:nvSpPr>
            <p:cNvPr id="137" name=""/>
            <p:cNvSpPr/>
            <p:nvPr/>
          </p:nvSpPr>
          <p:spPr>
            <a:xfrm>
              <a:off x="6716880" y="4492800"/>
              <a:ext cx="69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622920" y="3968640"/>
              <a:ext cx="880920" cy="220320"/>
              <a:chOff x="6622920" y="3968640"/>
              <a:chExt cx="880920" cy="22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6622920" y="3968640"/>
                <a:ext cx="556560" cy="142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77680" y="4004640"/>
                <a:ext cx="252000" cy="106200"/>
              </a:xfrm>
              <a:custGeom>
                <a:avLst/>
                <a:gdLst/>
                <a:ahLst/>
                <a:rect l="l" t="t" r="r" b="b"/>
                <a:pathLst>
                  <a:path w="680" h="138">
                    <a:moveTo>
                      <a:pt x="0" y="63"/>
                    </a:moveTo>
                    <a:cubicBezTo>
                      <a:pt x="26" y="24"/>
                      <a:pt x="53" y="21"/>
                      <a:pt x="96" y="7"/>
                    </a:cubicBezTo>
                    <a:cubicBezTo>
                      <a:pt x="131" y="10"/>
                      <a:pt x="168" y="0"/>
                      <a:pt x="200" y="15"/>
                    </a:cubicBezTo>
                    <a:cubicBezTo>
                      <a:pt x="215" y="22"/>
                      <a:pt x="207" y="49"/>
                      <a:pt x="216" y="63"/>
                    </a:cubicBezTo>
                    <a:cubicBezTo>
                      <a:pt x="243" y="103"/>
                      <a:pt x="323" y="99"/>
                      <a:pt x="360" y="103"/>
                    </a:cubicBezTo>
                    <a:cubicBezTo>
                      <a:pt x="413" y="138"/>
                      <a:pt x="604" y="135"/>
                      <a:pt x="680" y="135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7372440" y="4027680"/>
                <a:ext cx="4212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440840" y="4006440"/>
                <a:ext cx="2736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365240" y="4134600"/>
                <a:ext cx="4032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39040" y="4136760"/>
                <a:ext cx="2916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8040" y="4108680"/>
                <a:ext cx="5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7749720" y="3817800"/>
            <a:ext cx="772200" cy="920880"/>
            <a:chOff x="7749720" y="3817800"/>
            <a:chExt cx="772200" cy="920880"/>
          </a:xfrm>
        </p:grpSpPr>
        <p:grpSp>
          <p:nvGrpSpPr>
            <p:cNvPr id="147" name=""/>
            <p:cNvGrpSpPr/>
            <p:nvPr/>
          </p:nvGrpSpPr>
          <p:grpSpPr>
            <a:xfrm>
              <a:off x="8021880" y="3817800"/>
              <a:ext cx="228600" cy="495360"/>
              <a:chOff x="8021880" y="3817800"/>
              <a:chExt cx="228600" cy="495360"/>
            </a:xfrm>
          </p:grpSpPr>
          <p:sp>
            <p:nvSpPr>
              <p:cNvPr id="148" name=""/>
              <p:cNvSpPr/>
              <p:nvPr/>
            </p:nvSpPr>
            <p:spPr>
              <a:xfrm>
                <a:off x="8038080" y="381780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36360" y="395892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8037720" y="4195440"/>
                <a:ext cx="196920" cy="117720"/>
                <a:chOff x="8037720" y="4195440"/>
                <a:chExt cx="196920" cy="11772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803772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13636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8021880" y="40543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749720" y="449244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769240" y="3686040"/>
            <a:ext cx="689040" cy="1052640"/>
            <a:chOff x="8769240" y="3686040"/>
            <a:chExt cx="689040" cy="1052640"/>
          </a:xfrm>
        </p:grpSpPr>
        <p:grpSp>
          <p:nvGrpSpPr>
            <p:cNvPr id="156" name=""/>
            <p:cNvGrpSpPr/>
            <p:nvPr/>
          </p:nvGrpSpPr>
          <p:grpSpPr>
            <a:xfrm>
              <a:off x="8769240" y="3686040"/>
              <a:ext cx="689040" cy="671400"/>
              <a:chOff x="8769240" y="3686040"/>
              <a:chExt cx="689040" cy="671400"/>
            </a:xfrm>
          </p:grpSpPr>
          <p:sp>
            <p:nvSpPr>
              <p:cNvPr id="157" name=""/>
              <p:cNvSpPr/>
              <p:nvPr/>
            </p:nvSpPr>
            <p:spPr>
              <a:xfrm>
                <a:off x="884556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0600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69240" y="3686040"/>
                <a:ext cx="689040" cy="7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8798760" y="449244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th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50080" y="3784680"/>
            <a:ext cx="902160" cy="954360"/>
            <a:chOff x="550080" y="3784680"/>
            <a:chExt cx="902160" cy="954360"/>
          </a:xfrm>
        </p:grpSpPr>
        <p:grpSp>
          <p:nvGrpSpPr>
            <p:cNvPr id="162" name=""/>
            <p:cNvGrpSpPr/>
            <p:nvPr/>
          </p:nvGrpSpPr>
          <p:grpSpPr>
            <a:xfrm>
              <a:off x="550080" y="3784680"/>
              <a:ext cx="902160" cy="468000"/>
              <a:chOff x="550080" y="3784680"/>
              <a:chExt cx="902160" cy="46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1305000" y="3937680"/>
                <a:ext cx="147240" cy="7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024400">
                <a:off x="568080" y="379296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19000" y="4059000"/>
                <a:ext cx="441000" cy="193680"/>
                <a:chOff x="819000" y="4059000"/>
                <a:chExt cx="441000" cy="193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190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72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1312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20168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44840" y="3792600"/>
                <a:ext cx="589320" cy="363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8440" y="3817080"/>
                <a:ext cx="264960" cy="2178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71200">
                <a:off x="774360" y="379260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5800" y="391428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7600" y="388980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770040" y="44928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z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080600" y="3435480"/>
            <a:ext cx="1247400" cy="1303560"/>
            <a:chOff x="4080600" y="3435480"/>
            <a:chExt cx="1247400" cy="1303560"/>
          </a:xfrm>
        </p:grpSpPr>
        <p:sp>
          <p:nvSpPr>
            <p:cNvPr id="177" name=""/>
            <p:cNvSpPr/>
            <p:nvPr/>
          </p:nvSpPr>
          <p:spPr>
            <a:xfrm>
              <a:off x="4080600" y="4492800"/>
              <a:ext cx="124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ndelsvergu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378320" y="3435480"/>
              <a:ext cx="650880" cy="955800"/>
              <a:chOff x="4378320" y="3435480"/>
              <a:chExt cx="650880" cy="955800"/>
            </a:xfrm>
          </p:grpSpPr>
          <p:sp>
            <p:nvSpPr>
              <p:cNvPr id="179" name=""/>
              <p:cNvSpPr/>
              <p:nvPr/>
            </p:nvSpPr>
            <p:spPr>
              <a:xfrm>
                <a:off x="4731840" y="4143960"/>
                <a:ext cx="211680" cy="247320"/>
              </a:xfrm>
              <a:custGeom>
                <a:avLst/>
                <a:gdLst/>
                <a:ahLst/>
                <a:rect l="l" t="t" r="r" b="b"/>
                <a:pathLst>
                  <a:path w="272" h="317">
                    <a:moveTo>
                      <a:pt x="0" y="0"/>
                    </a:moveTo>
                    <a:lnTo>
                      <a:pt x="0" y="317"/>
                    </a:lnTo>
                    <a:lnTo>
                      <a:pt x="136" y="226"/>
                    </a:lnTo>
                    <a:lnTo>
                      <a:pt x="272" y="317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78320" y="3435480"/>
                <a:ext cx="650880" cy="742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73720" y="38246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3720" y="39308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3720" y="37184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31840" y="4037760"/>
                <a:ext cx="211680" cy="212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-2102400" y="-1797120"/>
            <a:ext cx="772200" cy="920880"/>
            <a:chOff x="-2102400" y="-1797120"/>
            <a:chExt cx="772200" cy="920880"/>
          </a:xfrm>
        </p:grpSpPr>
        <p:grpSp>
          <p:nvGrpSpPr>
            <p:cNvPr id="186" name=""/>
            <p:cNvGrpSpPr/>
            <p:nvPr/>
          </p:nvGrpSpPr>
          <p:grpSpPr>
            <a:xfrm>
              <a:off x="-1830240" y="-1797120"/>
              <a:ext cx="228600" cy="495360"/>
              <a:chOff x="-1830240" y="-1797120"/>
              <a:chExt cx="228600" cy="495360"/>
            </a:xfrm>
          </p:grpSpPr>
          <p:sp>
            <p:nvSpPr>
              <p:cNvPr id="187" name=""/>
              <p:cNvSpPr/>
              <p:nvPr/>
            </p:nvSpPr>
            <p:spPr>
              <a:xfrm>
                <a:off x="-1814040" y="-179712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1715760" y="-165600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-1814400" y="-1419480"/>
                <a:ext cx="197280" cy="117720"/>
                <a:chOff x="-1814400" y="-1419480"/>
                <a:chExt cx="197280" cy="11772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-1814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-1715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-1830240" y="-1560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-2102400" y="-112248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1040" y="743400"/>
            <a:ext cx="9023040" cy="1396800"/>
            <a:chOff x="491040" y="743400"/>
            <a:chExt cx="9023040" cy="1396800"/>
          </a:xfrm>
        </p:grpSpPr>
        <p:grpSp>
          <p:nvGrpSpPr>
            <p:cNvPr id="195" name=""/>
            <p:cNvGrpSpPr/>
            <p:nvPr/>
          </p:nvGrpSpPr>
          <p:grpSpPr>
            <a:xfrm>
              <a:off x="491040" y="839880"/>
              <a:ext cx="974880" cy="1300320"/>
              <a:chOff x="491040" y="839880"/>
              <a:chExt cx="974880" cy="1300320"/>
            </a:xfrm>
          </p:grpSpPr>
          <p:sp>
            <p:nvSpPr>
              <p:cNvPr id="196" name=""/>
              <p:cNvSpPr/>
              <p:nvPr/>
            </p:nvSpPr>
            <p:spPr>
              <a:xfrm>
                <a:off x="491040" y="1893960"/>
                <a:ext cx="97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concessi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652320" y="839880"/>
                <a:ext cx="652680" cy="812880"/>
                <a:chOff x="652320" y="839880"/>
                <a:chExt cx="652680" cy="812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52320" y="839880"/>
                  <a:ext cx="652680" cy="812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8080" y="9813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48080" y="10875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8080" y="11937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48080" y="129960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26720" y="1511640"/>
                  <a:ext cx="15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1713600" y="1185840"/>
              <a:ext cx="902160" cy="954360"/>
              <a:chOff x="1713600" y="1185840"/>
              <a:chExt cx="902160" cy="954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1713600" y="1185840"/>
                <a:ext cx="902160" cy="468000"/>
                <a:chOff x="1713600" y="1185840"/>
                <a:chExt cx="902160" cy="4680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468520" y="1338840"/>
                  <a:ext cx="147240" cy="7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024400">
                  <a:off x="1731600" y="119412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1982520" y="1460160"/>
                  <a:ext cx="441000" cy="193680"/>
                  <a:chOff x="1982520" y="1460160"/>
                  <a:chExt cx="441000" cy="1936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19825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707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27664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36520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1908360" y="1193760"/>
                  <a:ext cx="589320" cy="363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731960" y="1218240"/>
                  <a:ext cx="264960" cy="217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71200">
                  <a:off x="1937880" y="119376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49320" y="131544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61120" y="129096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1933560" y="18939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iz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82520" y="1219320"/>
              <a:ext cx="772200" cy="920880"/>
              <a:chOff x="2882520" y="1219320"/>
              <a:chExt cx="772200" cy="9208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54680" y="1219320"/>
                <a:ext cx="228600" cy="495360"/>
                <a:chOff x="3154680" y="1219320"/>
                <a:chExt cx="228600" cy="4953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170880" y="1219320"/>
                  <a:ext cx="196560" cy="141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69160" y="1360440"/>
                  <a:ext cx="0" cy="23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170520" y="1596960"/>
                  <a:ext cx="196920" cy="117720"/>
                  <a:chOff x="3170520" y="1596960"/>
                  <a:chExt cx="196920" cy="117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>
                    <a:off x="317052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26916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" name=""/>
                <p:cNvSpPr/>
                <p:nvPr/>
              </p:nvSpPr>
              <p:spPr>
                <a:xfrm>
                  <a:off x="3154680" y="1455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882520" y="1893960"/>
                <a:ext cx="77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krach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921120" y="1087560"/>
              <a:ext cx="689040" cy="1052640"/>
              <a:chOff x="3921120" y="1087560"/>
              <a:chExt cx="689040" cy="10526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921120" y="1087560"/>
                <a:ext cx="689040" cy="671400"/>
                <a:chOff x="3921120" y="1087560"/>
                <a:chExt cx="689040" cy="6714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99744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45788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21120" y="1087560"/>
                  <a:ext cx="689040" cy="71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3950640" y="189396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uthou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73680" y="743400"/>
              <a:ext cx="912240" cy="1396800"/>
              <a:chOff x="4873680" y="743400"/>
              <a:chExt cx="912240" cy="1396800"/>
            </a:xfrm>
          </p:grpSpPr>
          <p:sp>
            <p:nvSpPr>
              <p:cNvPr id="235" name=""/>
              <p:cNvSpPr/>
              <p:nvPr/>
            </p:nvSpPr>
            <p:spPr>
              <a:xfrm>
                <a:off x="4873680" y="189396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reedscha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29840" y="743400"/>
                <a:ext cx="835920" cy="995400"/>
                <a:chOff x="4929840" y="743400"/>
                <a:chExt cx="835920" cy="99540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5167800" y="906480"/>
                  <a:ext cx="334080" cy="780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>
                  <a:off x="5068080" y="906840"/>
                  <a:ext cx="378720" cy="51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929840" y="817560"/>
                  <a:ext cx="24228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8607600">
                  <a:off x="5375520" y="1371600"/>
                  <a:ext cx="313920" cy="303480"/>
                </a:xfrm>
                <a:custGeom>
                  <a:avLst/>
                  <a:gdLst/>
                  <a:ahLst/>
                  <a:rect l="l" t="t" r="r" b="b"/>
                  <a:pathLst>
                    <a:path w="363" h="499">
                      <a:moveTo>
                        <a:pt x="0" y="499"/>
                      </a:moveTo>
                      <a:lnTo>
                        <a:pt x="46" y="90"/>
                      </a:lnTo>
                      <a:cubicBezTo>
                        <a:pt x="76" y="7"/>
                        <a:pt x="137" y="0"/>
                        <a:pt x="182" y="0"/>
                      </a:cubicBezTo>
                      <a:cubicBezTo>
                        <a:pt x="227" y="0"/>
                        <a:pt x="288" y="7"/>
                        <a:pt x="318" y="90"/>
                      </a:cubicBezTo>
                      <a:lnTo>
                        <a:pt x="363" y="499"/>
                      </a:lnTo>
                      <a:lnTo>
                        <a:pt x="0" y="49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 rot="6793800">
                  <a:off x="5427360" y="649800"/>
                  <a:ext cx="141480" cy="5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051600" y="1370160"/>
              <a:ext cx="880920" cy="770040"/>
              <a:chOff x="6051600" y="1370160"/>
              <a:chExt cx="880920" cy="770040"/>
            </a:xfrm>
          </p:grpSpPr>
          <p:sp>
            <p:nvSpPr>
              <p:cNvPr id="243" name=""/>
              <p:cNvSpPr/>
              <p:nvPr/>
            </p:nvSpPr>
            <p:spPr>
              <a:xfrm>
                <a:off x="6145560" y="1893960"/>
                <a:ext cx="69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ynami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051600" y="1370160"/>
                <a:ext cx="880920" cy="220320"/>
                <a:chOff x="6051600" y="1370160"/>
                <a:chExt cx="880920" cy="220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051600" y="1370160"/>
                  <a:ext cx="556560" cy="142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606360" y="1406160"/>
                  <a:ext cx="252000" cy="106200"/>
                </a:xfrm>
                <a:custGeom>
                  <a:avLst/>
                  <a:gdLst/>
                  <a:ahLst/>
                  <a:rect l="l" t="t" r="r" b="b"/>
                  <a:pathLst>
                    <a:path w="680" h="138">
                      <a:moveTo>
                        <a:pt x="0" y="63"/>
                      </a:moveTo>
                      <a:cubicBezTo>
                        <a:pt x="26" y="24"/>
                        <a:pt x="53" y="21"/>
                        <a:pt x="96" y="7"/>
                      </a:cubicBezTo>
                      <a:cubicBezTo>
                        <a:pt x="131" y="10"/>
                        <a:pt x="168" y="0"/>
                        <a:pt x="200" y="15"/>
                      </a:cubicBezTo>
                      <a:cubicBezTo>
                        <a:pt x="215" y="22"/>
                        <a:pt x="207" y="49"/>
                        <a:pt x="216" y="63"/>
                      </a:cubicBezTo>
                      <a:cubicBezTo>
                        <a:pt x="243" y="103"/>
                        <a:pt x="323" y="99"/>
                        <a:pt x="360" y="103"/>
                      </a:cubicBezTo>
                      <a:cubicBezTo>
                        <a:pt x="413" y="138"/>
                        <a:pt x="604" y="135"/>
                        <a:pt x="680" y="13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>
                  <a:off x="6801120" y="1429200"/>
                  <a:ext cx="4212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6869520" y="1407960"/>
                  <a:ext cx="2736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6793920" y="1535760"/>
                  <a:ext cx="40320" cy="4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867720" y="1538280"/>
                  <a:ext cx="2916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876720" y="1509840"/>
                  <a:ext cx="5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7197840" y="1193760"/>
              <a:ext cx="803160" cy="946440"/>
              <a:chOff x="7197840" y="1193760"/>
              <a:chExt cx="803160" cy="946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7197840" y="1193760"/>
                <a:ext cx="803160" cy="495360"/>
                <a:chOff x="7197840" y="1193760"/>
                <a:chExt cx="803160" cy="495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197840" y="1193760"/>
                  <a:ext cx="803160" cy="378360"/>
                </a:xfrm>
                <a:custGeom>
                  <a:avLst/>
                  <a:gdLst>
                    <a:gd name="textAreaLeft" fmla="*/ 113760 w 803160"/>
                    <a:gd name="textAreaRight" fmla="*/ 689400 w 803160"/>
                    <a:gd name="textAreaTop" fmla="*/ 53640 h 378360"/>
                    <a:gd name="textAreaBottom" fmla="*/ 324720 h 37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231" y="21600"/>
                      </a:lnTo>
                      <a:lnTo>
                        <a:pt x="2369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6416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64172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7305480" y="1893960"/>
                <a:ext cx="58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k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266680" y="836640"/>
              <a:ext cx="1247400" cy="1303560"/>
              <a:chOff x="8266680" y="836640"/>
              <a:chExt cx="1247400" cy="130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8266680" y="1893960"/>
                <a:ext cx="124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ndelsvergun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8564400" y="836640"/>
                <a:ext cx="650880" cy="955800"/>
                <a:chOff x="8564400" y="836640"/>
                <a:chExt cx="650880" cy="9558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917920" y="1545120"/>
                  <a:ext cx="211680" cy="247320"/>
                </a:xfrm>
                <a:custGeom>
                  <a:avLst/>
                  <a:gdLst/>
                  <a:ahLst/>
                  <a:rect l="l" t="t" r="r" b="b"/>
                  <a:pathLst>
                    <a:path w="272" h="317">
                      <a:moveTo>
                        <a:pt x="0" y="0"/>
                      </a:moveTo>
                      <a:lnTo>
                        <a:pt x="0" y="317"/>
                      </a:lnTo>
                      <a:lnTo>
                        <a:pt x="136" y="226"/>
                      </a:lnTo>
                      <a:lnTo>
                        <a:pt x="272" y="317"/>
                      </a:lnTo>
                      <a:lnTo>
                        <a:pt x="2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64400" y="836640"/>
                  <a:ext cx="650880" cy="742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659800" y="12258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659800" y="13320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659800" y="11196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917920" y="1438920"/>
                  <a:ext cx="211680" cy="2120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8:08:07Z</dcterms:created>
  <dc:creator>Ruud en Sandra</dc:creator>
  <dc:description/>
  <dc:language>en-US</dc:language>
  <cp:lastModifiedBy>Eelco Last</cp:lastModifiedBy>
  <dcterms:modified xsi:type="dcterms:W3CDTF">2005-08-25T10:49:02Z</dcterms:modified>
  <cp:revision>12</cp:revision>
  <dc:subject/>
  <dc:title>Dia 1</dc:title>
</cp:coreProperties>
</file>