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B3EA-C367-4980-9555-A9CD4EDC8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720E-7796-4051-AEBF-B48F3022D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949F-D686-48CB-A6A4-544CF32F1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D432-50EC-4432-B310-8749F79B0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C8A5-B616-4076-8800-570C78FD4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3E67-1B1E-4A42-A283-7751065EA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841C-E4D6-4964-A8F6-F91CFBBC0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5609-44DB-4E9D-96D5-DEA62E2FB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F3D7-4C5B-4A98-8D56-49492D682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611A-4728-4AB6-BDE5-FB7DE2FF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49E1-DBD3-43CC-9D97-E255938F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74C1-DFF2-43AF-A2A2-59BC0D6D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2AABA-29F5-41A0-8ADF-DA06BC9FF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15000" y="273672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eedsch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569880" y="4392720"/>
            <a:ext cx="1636920" cy="1007640"/>
            <a:chOff x="569880" y="4392720"/>
            <a:chExt cx="1636920" cy="1007640"/>
          </a:xfrm>
        </p:grpSpPr>
        <p:sp>
          <p:nvSpPr>
            <p:cNvPr id="43" name=""/>
            <p:cNvSpPr/>
            <p:nvPr/>
          </p:nvSpPr>
          <p:spPr>
            <a:xfrm>
              <a:off x="569880" y="4392720"/>
              <a:ext cx="1636920" cy="769680"/>
            </a:xfrm>
            <a:custGeom>
              <a:avLst/>
              <a:gdLst>
                <a:gd name="textAreaLeft" fmla="*/ 232200 w 1636920"/>
                <a:gd name="textAreaRight" fmla="*/ 1404720 w 1636920"/>
                <a:gd name="textAreaTop" fmla="*/ 109080 h 769680"/>
                <a:gd name="textAreaBottom" fmla="*/ 660600 h 76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231" y="21600"/>
                  </a:lnTo>
                  <a:lnTo>
                    <a:pt x="2369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908640" y="4984560"/>
              <a:ext cx="396000" cy="4158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74200" y="4984560"/>
              <a:ext cx="396000" cy="4158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929880" y="561672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jnk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10840" y="568800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5920" y="280044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jnconcess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5478480" y="855720"/>
            <a:ext cx="1326600" cy="1655640"/>
            <a:chOff x="5478480" y="855720"/>
            <a:chExt cx="1326600" cy="1655640"/>
          </a:xfrm>
        </p:grpSpPr>
        <p:sp>
          <p:nvSpPr>
            <p:cNvPr id="50" name=""/>
            <p:cNvSpPr/>
            <p:nvPr/>
          </p:nvSpPr>
          <p:spPr>
            <a:xfrm>
              <a:off x="5478480" y="855720"/>
              <a:ext cx="1326600" cy="1655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672880" y="1144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672880" y="1360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672880" y="1576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672880" y="1792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239160" y="2224080"/>
              <a:ext cx="31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2868480" y="4824360"/>
            <a:ext cx="1793520" cy="447480"/>
            <a:chOff x="2868480" y="4824360"/>
            <a:chExt cx="1793520" cy="447480"/>
          </a:xfrm>
        </p:grpSpPr>
        <p:sp>
          <p:nvSpPr>
            <p:cNvPr id="57" name=""/>
            <p:cNvSpPr/>
            <p:nvPr/>
          </p:nvSpPr>
          <p:spPr>
            <a:xfrm>
              <a:off x="2868480" y="4824360"/>
              <a:ext cx="1132920" cy="288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97800" y="4897440"/>
              <a:ext cx="513360" cy="215640"/>
            </a:xfrm>
            <a:custGeom>
              <a:avLst/>
              <a:gdLst/>
              <a:ahLst/>
              <a:rect l="l" t="t" r="r" b="b"/>
              <a:pathLst>
                <a:path w="680" h="138">
                  <a:moveTo>
                    <a:pt x="0" y="63"/>
                  </a:moveTo>
                  <a:cubicBezTo>
                    <a:pt x="26" y="24"/>
                    <a:pt x="53" y="21"/>
                    <a:pt x="96" y="7"/>
                  </a:cubicBezTo>
                  <a:cubicBezTo>
                    <a:pt x="131" y="10"/>
                    <a:pt x="168" y="0"/>
                    <a:pt x="200" y="15"/>
                  </a:cubicBezTo>
                  <a:cubicBezTo>
                    <a:pt x="215" y="22"/>
                    <a:pt x="207" y="49"/>
                    <a:pt x="216" y="63"/>
                  </a:cubicBezTo>
                  <a:cubicBezTo>
                    <a:pt x="243" y="103"/>
                    <a:pt x="323" y="99"/>
                    <a:pt x="360" y="103"/>
                  </a:cubicBezTo>
                  <a:cubicBezTo>
                    <a:pt x="413" y="138"/>
                    <a:pt x="604" y="135"/>
                    <a:pt x="680" y="13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 flipV="1">
              <a:off x="4394880" y="4944600"/>
              <a:ext cx="8604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533480" y="4901760"/>
              <a:ext cx="561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4379760" y="5160960"/>
              <a:ext cx="82440" cy="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29880" y="5165640"/>
              <a:ext cx="5976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548600" y="5108400"/>
              <a:ext cx="11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2950560" y="593640"/>
            <a:ext cx="1701720" cy="2027520"/>
            <a:chOff x="2950560" y="593640"/>
            <a:chExt cx="1701720" cy="2027520"/>
          </a:xfrm>
        </p:grpSpPr>
        <p:sp>
          <p:nvSpPr>
            <p:cNvPr id="65" name=""/>
            <p:cNvSpPr/>
            <p:nvPr/>
          </p:nvSpPr>
          <p:spPr>
            <a:xfrm flipH="1">
              <a:off x="3434400" y="925200"/>
              <a:ext cx="680040" cy="1589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3231360" y="925200"/>
              <a:ext cx="771480" cy="1040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2950560" y="744120"/>
              <a:ext cx="492840" cy="36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rot="8607600">
              <a:off x="3857400" y="1872720"/>
              <a:ext cx="639000" cy="618840"/>
            </a:xfrm>
            <a:custGeom>
              <a:avLst/>
              <a:gdLst/>
              <a:ahLst/>
              <a:rect l="l" t="t" r="r" b="b"/>
              <a:pathLst>
                <a:path w="363" h="499">
                  <a:moveTo>
                    <a:pt x="0" y="499"/>
                  </a:moveTo>
                  <a:lnTo>
                    <a:pt x="46" y="90"/>
                  </a:lnTo>
                  <a:cubicBezTo>
                    <a:pt x="76" y="7"/>
                    <a:pt x="137" y="0"/>
                    <a:pt x="182" y="0"/>
                  </a:cubicBezTo>
                  <a:cubicBezTo>
                    <a:pt x="227" y="0"/>
                    <a:pt x="288" y="7"/>
                    <a:pt x="318" y="90"/>
                  </a:cubicBezTo>
                  <a:lnTo>
                    <a:pt x="363" y="499"/>
                  </a:lnTo>
                  <a:lnTo>
                    <a:pt x="0" y="499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 rot="6793800">
              <a:off x="3962880" y="404640"/>
              <a:ext cx="288720" cy="1062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907240" y="4392720"/>
            <a:ext cx="466560" cy="1007640"/>
            <a:chOff x="5907240" y="4392720"/>
            <a:chExt cx="466560" cy="1007640"/>
          </a:xfrm>
        </p:grpSpPr>
        <p:sp>
          <p:nvSpPr>
            <p:cNvPr id="71" name=""/>
            <p:cNvSpPr/>
            <p:nvPr/>
          </p:nvSpPr>
          <p:spPr>
            <a:xfrm>
              <a:off x="5940720" y="4392720"/>
              <a:ext cx="399240" cy="287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140520" y="4680360"/>
              <a:ext cx="0" cy="479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5940360" y="5160600"/>
              <a:ext cx="399600" cy="239760"/>
              <a:chOff x="5940360" y="5160600"/>
              <a:chExt cx="399600" cy="239760"/>
            </a:xfrm>
          </p:grpSpPr>
          <p:sp>
            <p:nvSpPr>
              <p:cNvPr id="74" name=""/>
              <p:cNvSpPr/>
              <p:nvPr/>
            </p:nvSpPr>
            <p:spPr>
              <a:xfrm flipH="1">
                <a:off x="5940360" y="5160600"/>
                <a:ext cx="199800" cy="239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140520" y="5160600"/>
                <a:ext cx="199440" cy="239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5907240" y="4872600"/>
              <a:ext cx="466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5517360" y="556416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kra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7816680" y="4457880"/>
            <a:ext cx="1403280" cy="1368360"/>
            <a:chOff x="7816680" y="4457880"/>
            <a:chExt cx="1403280" cy="1368360"/>
          </a:xfrm>
        </p:grpSpPr>
        <p:sp>
          <p:nvSpPr>
            <p:cNvPr id="79" name=""/>
            <p:cNvSpPr/>
            <p:nvPr/>
          </p:nvSpPr>
          <p:spPr>
            <a:xfrm>
              <a:off x="7971480" y="4602240"/>
              <a:ext cx="154800" cy="1224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908920" y="4602240"/>
              <a:ext cx="154080" cy="1224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16680" y="4457880"/>
              <a:ext cx="1403280" cy="144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8021880" y="589752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th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51440" y="1135440"/>
            <a:ext cx="1837440" cy="951840"/>
            <a:chOff x="451440" y="1135440"/>
            <a:chExt cx="1837440" cy="951840"/>
          </a:xfrm>
        </p:grpSpPr>
        <p:sp>
          <p:nvSpPr>
            <p:cNvPr id="84" name=""/>
            <p:cNvSpPr/>
            <p:nvPr/>
          </p:nvSpPr>
          <p:spPr>
            <a:xfrm>
              <a:off x="1988640" y="1446480"/>
              <a:ext cx="300240" cy="14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0024400">
              <a:off x="488520" y="1151640"/>
              <a:ext cx="118800" cy="196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999360" y="1693080"/>
              <a:ext cx="897840" cy="394200"/>
              <a:chOff x="999360" y="1693080"/>
              <a:chExt cx="897840" cy="394200"/>
            </a:xfrm>
          </p:grpSpPr>
          <p:sp>
            <p:nvSpPr>
              <p:cNvPr id="87" name=""/>
              <p:cNvSpPr/>
              <p:nvPr/>
            </p:nvSpPr>
            <p:spPr>
              <a:xfrm>
                <a:off x="99936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17936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59876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77840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848520" y="1150920"/>
              <a:ext cx="1199880" cy="7390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8880" y="1200600"/>
              <a:ext cx="539640" cy="443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771200">
              <a:off x="908280" y="1151640"/>
              <a:ext cx="118800" cy="196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28280" y="1398600"/>
              <a:ext cx="59400" cy="4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48280" y="1348560"/>
              <a:ext cx="59400" cy="4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1026720" y="237492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z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464960" y="280836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elsvergu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7853400" y="855720"/>
            <a:ext cx="1326960" cy="1944720"/>
            <a:chOff x="7853400" y="855720"/>
            <a:chExt cx="1326960" cy="1944720"/>
          </a:xfrm>
        </p:grpSpPr>
        <p:sp>
          <p:nvSpPr>
            <p:cNvPr id="99" name=""/>
            <p:cNvSpPr/>
            <p:nvPr/>
          </p:nvSpPr>
          <p:spPr>
            <a:xfrm>
              <a:off x="8574120" y="2297160"/>
              <a:ext cx="431640" cy="503280"/>
            </a:xfrm>
            <a:custGeom>
              <a:avLst/>
              <a:gdLst/>
              <a:ahLst/>
              <a:rect l="l" t="t" r="r" b="b"/>
              <a:pathLst>
                <a:path w="272" h="317">
                  <a:moveTo>
                    <a:pt x="0" y="0"/>
                  </a:moveTo>
                  <a:lnTo>
                    <a:pt x="0" y="317"/>
                  </a:lnTo>
                  <a:lnTo>
                    <a:pt x="136" y="226"/>
                  </a:lnTo>
                  <a:lnTo>
                    <a:pt x="272" y="317"/>
                  </a:lnTo>
                  <a:lnTo>
                    <a:pt x="2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853400" y="855720"/>
              <a:ext cx="1326960" cy="1511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048520" y="164772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048520" y="186372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48520" y="143172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574120" y="2081160"/>
              <a:ext cx="431640" cy="431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4952880" y="243000"/>
            <a:ext cx="237672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29600" y="3456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29600" y="243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3456000"/>
            <a:ext cx="237672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76520" y="3456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76520" y="243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0160" y="243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0160" y="3456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2856600" y="3438360"/>
            <a:ext cx="974880" cy="1300320"/>
            <a:chOff x="2856600" y="3438360"/>
            <a:chExt cx="974880" cy="1300320"/>
          </a:xfrm>
        </p:grpSpPr>
        <p:sp>
          <p:nvSpPr>
            <p:cNvPr id="114" name=""/>
            <p:cNvSpPr/>
            <p:nvPr/>
          </p:nvSpPr>
          <p:spPr>
            <a:xfrm>
              <a:off x="2856600" y="4492440"/>
              <a:ext cx="974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ijnconcessi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3017520" y="3438360"/>
              <a:ext cx="652320" cy="812880"/>
              <a:chOff x="3017520" y="3438360"/>
              <a:chExt cx="652320" cy="812880"/>
            </a:xfrm>
          </p:grpSpPr>
          <p:sp>
            <p:nvSpPr>
              <p:cNvPr id="116" name=""/>
              <p:cNvSpPr/>
              <p:nvPr/>
            </p:nvSpPr>
            <p:spPr>
              <a:xfrm>
                <a:off x="3017520" y="3438360"/>
                <a:ext cx="652320" cy="8128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113280" y="357984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113280" y="368604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113280" y="379224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113280" y="389808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391560" y="4110120"/>
                <a:ext cx="153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2" name=""/>
          <p:cNvGrpSpPr/>
          <p:nvPr/>
        </p:nvGrpSpPr>
        <p:grpSpPr>
          <a:xfrm>
            <a:off x="1697040" y="3342240"/>
            <a:ext cx="912240" cy="1396800"/>
            <a:chOff x="1697040" y="3342240"/>
            <a:chExt cx="912240" cy="1396800"/>
          </a:xfrm>
        </p:grpSpPr>
        <p:sp>
          <p:nvSpPr>
            <p:cNvPr id="123" name=""/>
            <p:cNvSpPr/>
            <p:nvPr/>
          </p:nvSpPr>
          <p:spPr>
            <a:xfrm>
              <a:off x="1697040" y="4492800"/>
              <a:ext cx="912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reedscha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1753200" y="3342240"/>
              <a:ext cx="835920" cy="995400"/>
              <a:chOff x="1753200" y="3342240"/>
              <a:chExt cx="835920" cy="995400"/>
            </a:xfrm>
          </p:grpSpPr>
          <p:sp>
            <p:nvSpPr>
              <p:cNvPr id="125" name=""/>
              <p:cNvSpPr/>
              <p:nvPr/>
            </p:nvSpPr>
            <p:spPr>
              <a:xfrm flipH="1">
                <a:off x="1991160" y="3505320"/>
                <a:ext cx="334080" cy="780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flipV="1">
                <a:off x="1891440" y="3505680"/>
                <a:ext cx="378720" cy="510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1753200" y="3416400"/>
                <a:ext cx="242280" cy="17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8607600">
                <a:off x="2198880" y="3970440"/>
                <a:ext cx="313920" cy="303480"/>
              </a:xfrm>
              <a:custGeom>
                <a:avLst/>
                <a:gdLst/>
                <a:ahLst/>
                <a:rect l="l" t="t" r="r" b="b"/>
                <a:pathLst>
                  <a:path w="363" h="499">
                    <a:moveTo>
                      <a:pt x="0" y="499"/>
                    </a:moveTo>
                    <a:lnTo>
                      <a:pt x="46" y="90"/>
                    </a:lnTo>
                    <a:cubicBezTo>
                      <a:pt x="76" y="7"/>
                      <a:pt x="137" y="0"/>
                      <a:pt x="182" y="0"/>
                    </a:cubicBezTo>
                    <a:cubicBezTo>
                      <a:pt x="227" y="0"/>
                      <a:pt x="288" y="7"/>
                      <a:pt x="318" y="90"/>
                    </a:cubicBezTo>
                    <a:lnTo>
                      <a:pt x="363" y="499"/>
                    </a:lnTo>
                    <a:lnTo>
                      <a:pt x="0" y="499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 rot="6793800">
                <a:off x="2250720" y="3248640"/>
                <a:ext cx="141480" cy="522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5573880" y="3792600"/>
            <a:ext cx="803160" cy="946440"/>
            <a:chOff x="5573880" y="3792600"/>
            <a:chExt cx="803160" cy="946440"/>
          </a:xfrm>
        </p:grpSpPr>
        <p:grpSp>
          <p:nvGrpSpPr>
            <p:cNvPr id="131" name=""/>
            <p:cNvGrpSpPr/>
            <p:nvPr/>
          </p:nvGrpSpPr>
          <p:grpSpPr>
            <a:xfrm>
              <a:off x="5573880" y="3792600"/>
              <a:ext cx="803160" cy="495360"/>
              <a:chOff x="5573880" y="3792600"/>
              <a:chExt cx="803160" cy="495360"/>
            </a:xfrm>
          </p:grpSpPr>
          <p:sp>
            <p:nvSpPr>
              <p:cNvPr id="132" name=""/>
              <p:cNvSpPr/>
              <p:nvPr/>
            </p:nvSpPr>
            <p:spPr>
              <a:xfrm>
                <a:off x="5573880" y="3792600"/>
                <a:ext cx="803160" cy="378360"/>
              </a:xfrm>
              <a:custGeom>
                <a:avLst/>
                <a:gdLst>
                  <a:gd name="textAreaLeft" fmla="*/ 113760 w 803160"/>
                  <a:gd name="textAreaRight" fmla="*/ 689400 w 803160"/>
                  <a:gd name="textAreaTop" fmla="*/ 53640 h 378360"/>
                  <a:gd name="textAreaBottom" fmla="*/ 324720 h 378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231" y="21600"/>
                    </a:lnTo>
                    <a:lnTo>
                      <a:pt x="2369" y="2160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740200" y="4083480"/>
                <a:ext cx="194040" cy="204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017760" y="4083480"/>
                <a:ext cx="194040" cy="204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5681520" y="4492800"/>
              <a:ext cx="58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ijnk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6622920" y="3968640"/>
            <a:ext cx="880920" cy="770400"/>
            <a:chOff x="6622920" y="3968640"/>
            <a:chExt cx="880920" cy="770400"/>
          </a:xfrm>
        </p:grpSpPr>
        <p:sp>
          <p:nvSpPr>
            <p:cNvPr id="137" name=""/>
            <p:cNvSpPr/>
            <p:nvPr/>
          </p:nvSpPr>
          <p:spPr>
            <a:xfrm>
              <a:off x="6716880" y="4492800"/>
              <a:ext cx="692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ynami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6622920" y="3968640"/>
              <a:ext cx="880920" cy="220320"/>
              <a:chOff x="6622920" y="3968640"/>
              <a:chExt cx="880920" cy="220320"/>
            </a:xfrm>
          </p:grpSpPr>
          <p:sp>
            <p:nvSpPr>
              <p:cNvPr id="139" name=""/>
              <p:cNvSpPr/>
              <p:nvPr/>
            </p:nvSpPr>
            <p:spPr>
              <a:xfrm>
                <a:off x="6622920" y="3968640"/>
                <a:ext cx="556560" cy="142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177680" y="4004640"/>
                <a:ext cx="252000" cy="106200"/>
              </a:xfrm>
              <a:custGeom>
                <a:avLst/>
                <a:gdLst/>
                <a:ahLst/>
                <a:rect l="l" t="t" r="r" b="b"/>
                <a:pathLst>
                  <a:path w="680" h="138">
                    <a:moveTo>
                      <a:pt x="0" y="63"/>
                    </a:moveTo>
                    <a:cubicBezTo>
                      <a:pt x="26" y="24"/>
                      <a:pt x="53" y="21"/>
                      <a:pt x="96" y="7"/>
                    </a:cubicBezTo>
                    <a:cubicBezTo>
                      <a:pt x="131" y="10"/>
                      <a:pt x="168" y="0"/>
                      <a:pt x="200" y="15"/>
                    </a:cubicBezTo>
                    <a:cubicBezTo>
                      <a:pt x="215" y="22"/>
                      <a:pt x="207" y="49"/>
                      <a:pt x="216" y="63"/>
                    </a:cubicBezTo>
                    <a:cubicBezTo>
                      <a:pt x="243" y="103"/>
                      <a:pt x="323" y="99"/>
                      <a:pt x="360" y="103"/>
                    </a:cubicBezTo>
                    <a:cubicBezTo>
                      <a:pt x="413" y="138"/>
                      <a:pt x="604" y="135"/>
                      <a:pt x="680" y="135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 flipV="1">
                <a:off x="7372440" y="4027680"/>
                <a:ext cx="42120" cy="5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7440840" y="4006440"/>
                <a:ext cx="27360" cy="7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7365240" y="4134600"/>
                <a:ext cx="40320" cy="4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439040" y="4136760"/>
                <a:ext cx="29160" cy="5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448040" y="4108680"/>
                <a:ext cx="5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6" name=""/>
          <p:cNvGrpSpPr/>
          <p:nvPr/>
        </p:nvGrpSpPr>
        <p:grpSpPr>
          <a:xfrm>
            <a:off x="7749720" y="3817800"/>
            <a:ext cx="772200" cy="920880"/>
            <a:chOff x="7749720" y="3817800"/>
            <a:chExt cx="772200" cy="920880"/>
          </a:xfrm>
        </p:grpSpPr>
        <p:grpSp>
          <p:nvGrpSpPr>
            <p:cNvPr id="147" name=""/>
            <p:cNvGrpSpPr/>
            <p:nvPr/>
          </p:nvGrpSpPr>
          <p:grpSpPr>
            <a:xfrm>
              <a:off x="8021880" y="3817800"/>
              <a:ext cx="228600" cy="495360"/>
              <a:chOff x="8021880" y="3817800"/>
              <a:chExt cx="228600" cy="495360"/>
            </a:xfrm>
          </p:grpSpPr>
          <p:sp>
            <p:nvSpPr>
              <p:cNvPr id="148" name=""/>
              <p:cNvSpPr/>
              <p:nvPr/>
            </p:nvSpPr>
            <p:spPr>
              <a:xfrm>
                <a:off x="8038080" y="3817800"/>
                <a:ext cx="196560" cy="1411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136360" y="3958920"/>
                <a:ext cx="0" cy="23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" name=""/>
              <p:cNvGrpSpPr/>
              <p:nvPr/>
            </p:nvGrpSpPr>
            <p:grpSpPr>
              <a:xfrm>
                <a:off x="8037720" y="4195440"/>
                <a:ext cx="196920" cy="117720"/>
                <a:chOff x="8037720" y="4195440"/>
                <a:chExt cx="196920" cy="117720"/>
              </a:xfrm>
            </p:grpSpPr>
            <p:sp>
              <p:nvSpPr>
                <p:cNvPr id="151" name=""/>
                <p:cNvSpPr/>
                <p:nvPr/>
              </p:nvSpPr>
              <p:spPr>
                <a:xfrm flipH="1">
                  <a:off x="8037720" y="419544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136360" y="419544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"/>
              <p:cNvSpPr/>
              <p:nvPr/>
            </p:nvSpPr>
            <p:spPr>
              <a:xfrm>
                <a:off x="8021880" y="40543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7749720" y="4492440"/>
              <a:ext cx="77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nkrach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8769240" y="3686040"/>
            <a:ext cx="689040" cy="1052640"/>
            <a:chOff x="8769240" y="3686040"/>
            <a:chExt cx="689040" cy="1052640"/>
          </a:xfrm>
        </p:grpSpPr>
        <p:grpSp>
          <p:nvGrpSpPr>
            <p:cNvPr id="156" name=""/>
            <p:cNvGrpSpPr/>
            <p:nvPr/>
          </p:nvGrpSpPr>
          <p:grpSpPr>
            <a:xfrm>
              <a:off x="8769240" y="3686040"/>
              <a:ext cx="689040" cy="671400"/>
              <a:chOff x="8769240" y="3686040"/>
              <a:chExt cx="689040" cy="671400"/>
            </a:xfrm>
          </p:grpSpPr>
          <p:sp>
            <p:nvSpPr>
              <p:cNvPr id="157" name=""/>
              <p:cNvSpPr/>
              <p:nvPr/>
            </p:nvSpPr>
            <p:spPr>
              <a:xfrm>
                <a:off x="8845560" y="3757320"/>
                <a:ext cx="76320" cy="6001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9306000" y="3757320"/>
                <a:ext cx="76320" cy="6001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769240" y="3686040"/>
                <a:ext cx="689040" cy="712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8798760" y="4492440"/>
              <a:ext cx="63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uthou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550080" y="3784680"/>
            <a:ext cx="902160" cy="954360"/>
            <a:chOff x="550080" y="3784680"/>
            <a:chExt cx="902160" cy="954360"/>
          </a:xfrm>
        </p:grpSpPr>
        <p:grpSp>
          <p:nvGrpSpPr>
            <p:cNvPr id="162" name=""/>
            <p:cNvGrpSpPr/>
            <p:nvPr/>
          </p:nvGrpSpPr>
          <p:grpSpPr>
            <a:xfrm>
              <a:off x="550080" y="3784680"/>
              <a:ext cx="902160" cy="468000"/>
              <a:chOff x="550080" y="3784680"/>
              <a:chExt cx="902160" cy="468000"/>
            </a:xfrm>
          </p:grpSpPr>
          <p:sp>
            <p:nvSpPr>
              <p:cNvPr id="163" name=""/>
              <p:cNvSpPr/>
              <p:nvPr/>
            </p:nvSpPr>
            <p:spPr>
              <a:xfrm>
                <a:off x="1305000" y="3937680"/>
                <a:ext cx="147240" cy="7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20024400">
                <a:off x="568080" y="3792960"/>
                <a:ext cx="58320" cy="96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19000" y="4059000"/>
                <a:ext cx="441000" cy="193680"/>
                <a:chOff x="819000" y="4059000"/>
                <a:chExt cx="441000" cy="1936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1900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90720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11312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20168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0" name=""/>
              <p:cNvSpPr/>
              <p:nvPr/>
            </p:nvSpPr>
            <p:spPr>
              <a:xfrm>
                <a:off x="744840" y="3792600"/>
                <a:ext cx="589320" cy="3632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68440" y="3817080"/>
                <a:ext cx="264960" cy="2178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771200">
                <a:off x="774360" y="3792600"/>
                <a:ext cx="58320" cy="96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85800" y="3914280"/>
                <a:ext cx="29160" cy="23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97600" y="3889800"/>
                <a:ext cx="29160" cy="23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770040" y="4492800"/>
              <a:ext cx="482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iz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080600" y="3435480"/>
            <a:ext cx="1247400" cy="1303560"/>
            <a:chOff x="4080600" y="3435480"/>
            <a:chExt cx="1247400" cy="1303560"/>
          </a:xfrm>
        </p:grpSpPr>
        <p:sp>
          <p:nvSpPr>
            <p:cNvPr id="177" name=""/>
            <p:cNvSpPr/>
            <p:nvPr/>
          </p:nvSpPr>
          <p:spPr>
            <a:xfrm>
              <a:off x="4080600" y="4492800"/>
              <a:ext cx="1247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andelsvergunn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4378320" y="3435480"/>
              <a:ext cx="650880" cy="955800"/>
              <a:chOff x="4378320" y="3435480"/>
              <a:chExt cx="650880" cy="955800"/>
            </a:xfrm>
          </p:grpSpPr>
          <p:sp>
            <p:nvSpPr>
              <p:cNvPr id="179" name=""/>
              <p:cNvSpPr/>
              <p:nvPr/>
            </p:nvSpPr>
            <p:spPr>
              <a:xfrm>
                <a:off x="4731840" y="4143960"/>
                <a:ext cx="211680" cy="247320"/>
              </a:xfrm>
              <a:custGeom>
                <a:avLst/>
                <a:gdLst/>
                <a:ahLst/>
                <a:rect l="l" t="t" r="r" b="b"/>
                <a:pathLst>
                  <a:path w="272" h="317">
                    <a:moveTo>
                      <a:pt x="0" y="0"/>
                    </a:moveTo>
                    <a:lnTo>
                      <a:pt x="0" y="317"/>
                    </a:lnTo>
                    <a:lnTo>
                      <a:pt x="136" y="226"/>
                    </a:lnTo>
                    <a:lnTo>
                      <a:pt x="272" y="317"/>
                    </a:lnTo>
                    <a:lnTo>
                      <a:pt x="2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78320" y="3435480"/>
                <a:ext cx="650880" cy="742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473720" y="3824640"/>
                <a:ext cx="459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473720" y="3930840"/>
                <a:ext cx="459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473720" y="3718440"/>
                <a:ext cx="459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731840" y="4037760"/>
                <a:ext cx="211680" cy="2120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5" name=""/>
          <p:cNvGrpSpPr/>
          <p:nvPr/>
        </p:nvGrpSpPr>
        <p:grpSpPr>
          <a:xfrm>
            <a:off x="-2102400" y="-1797120"/>
            <a:ext cx="772200" cy="920880"/>
            <a:chOff x="-2102400" y="-1797120"/>
            <a:chExt cx="772200" cy="920880"/>
          </a:xfrm>
        </p:grpSpPr>
        <p:grpSp>
          <p:nvGrpSpPr>
            <p:cNvPr id="186" name=""/>
            <p:cNvGrpSpPr/>
            <p:nvPr/>
          </p:nvGrpSpPr>
          <p:grpSpPr>
            <a:xfrm>
              <a:off x="-1830240" y="-1797120"/>
              <a:ext cx="228600" cy="495360"/>
              <a:chOff x="-1830240" y="-1797120"/>
              <a:chExt cx="228600" cy="495360"/>
            </a:xfrm>
          </p:grpSpPr>
          <p:sp>
            <p:nvSpPr>
              <p:cNvPr id="187" name=""/>
              <p:cNvSpPr/>
              <p:nvPr/>
            </p:nvSpPr>
            <p:spPr>
              <a:xfrm>
                <a:off x="-1814040" y="-1797120"/>
                <a:ext cx="196560" cy="1411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-1715760" y="-1656000"/>
                <a:ext cx="0" cy="23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9" name=""/>
              <p:cNvGrpSpPr/>
              <p:nvPr/>
            </p:nvGrpSpPr>
            <p:grpSpPr>
              <a:xfrm>
                <a:off x="-1814400" y="-1419480"/>
                <a:ext cx="197280" cy="117720"/>
                <a:chOff x="-1814400" y="-1419480"/>
                <a:chExt cx="197280" cy="117720"/>
              </a:xfrm>
            </p:grpSpPr>
            <p:sp>
              <p:nvSpPr>
                <p:cNvPr id="190" name=""/>
                <p:cNvSpPr/>
                <p:nvPr/>
              </p:nvSpPr>
              <p:spPr>
                <a:xfrm flipH="1">
                  <a:off x="-1814400" y="-141948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-1715400" y="-141948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-1830240" y="-15606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-2102400" y="-1122480"/>
              <a:ext cx="77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nkrach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491040" y="743400"/>
            <a:ext cx="9023040" cy="1396800"/>
            <a:chOff x="491040" y="743400"/>
            <a:chExt cx="9023040" cy="1396800"/>
          </a:xfrm>
        </p:grpSpPr>
        <p:grpSp>
          <p:nvGrpSpPr>
            <p:cNvPr id="195" name=""/>
            <p:cNvGrpSpPr/>
            <p:nvPr/>
          </p:nvGrpSpPr>
          <p:grpSpPr>
            <a:xfrm>
              <a:off x="491040" y="839880"/>
              <a:ext cx="974880" cy="1300320"/>
              <a:chOff x="491040" y="839880"/>
              <a:chExt cx="974880" cy="1300320"/>
            </a:xfrm>
          </p:grpSpPr>
          <p:sp>
            <p:nvSpPr>
              <p:cNvPr id="196" name=""/>
              <p:cNvSpPr/>
              <p:nvPr/>
            </p:nvSpPr>
            <p:spPr>
              <a:xfrm>
                <a:off x="491040" y="1893960"/>
                <a:ext cx="97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ijnconcessi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7" name=""/>
              <p:cNvGrpSpPr/>
              <p:nvPr/>
            </p:nvGrpSpPr>
            <p:grpSpPr>
              <a:xfrm>
                <a:off x="652320" y="839880"/>
                <a:ext cx="652680" cy="812880"/>
                <a:chOff x="652320" y="839880"/>
                <a:chExt cx="652680" cy="81288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652320" y="839880"/>
                  <a:ext cx="652680" cy="8128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48080" y="98136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748080" y="108756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48080" y="119376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48080" y="129960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026720" y="1511640"/>
                  <a:ext cx="153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4" name=""/>
            <p:cNvGrpSpPr/>
            <p:nvPr/>
          </p:nvGrpSpPr>
          <p:grpSpPr>
            <a:xfrm>
              <a:off x="1713600" y="1185840"/>
              <a:ext cx="902160" cy="954360"/>
              <a:chOff x="1713600" y="1185840"/>
              <a:chExt cx="902160" cy="95436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1713600" y="1185840"/>
                <a:ext cx="902160" cy="468000"/>
                <a:chOff x="1713600" y="1185840"/>
                <a:chExt cx="902160" cy="46800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2468520" y="1338840"/>
                  <a:ext cx="147240" cy="72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rot="20024400">
                  <a:off x="1731600" y="1194120"/>
                  <a:ext cx="58320" cy="964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8" name=""/>
                <p:cNvGrpSpPr/>
                <p:nvPr/>
              </p:nvGrpSpPr>
              <p:grpSpPr>
                <a:xfrm>
                  <a:off x="1982520" y="1460160"/>
                  <a:ext cx="441000" cy="193680"/>
                  <a:chOff x="1982520" y="1460160"/>
                  <a:chExt cx="441000" cy="193680"/>
                </a:xfrm>
              </p:grpSpPr>
              <p:sp>
                <p:nvSpPr>
                  <p:cNvPr id="209" name=""/>
                  <p:cNvSpPr/>
                  <p:nvPr/>
                </p:nvSpPr>
                <p:spPr>
                  <a:xfrm>
                    <a:off x="198252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207072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227664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236520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3" name=""/>
                <p:cNvSpPr/>
                <p:nvPr/>
              </p:nvSpPr>
              <p:spPr>
                <a:xfrm>
                  <a:off x="1908360" y="1193760"/>
                  <a:ext cx="589320" cy="36324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1731960" y="1218240"/>
                  <a:ext cx="264960" cy="21780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rot="1771200">
                  <a:off x="1937880" y="1193760"/>
                  <a:ext cx="58320" cy="964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1849320" y="1315440"/>
                  <a:ext cx="29160" cy="23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761120" y="1290960"/>
                  <a:ext cx="29160" cy="23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" name=""/>
              <p:cNvSpPr/>
              <p:nvPr/>
            </p:nvSpPr>
            <p:spPr>
              <a:xfrm>
                <a:off x="1933560" y="189396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biz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2882520" y="1219320"/>
              <a:ext cx="772200" cy="920880"/>
              <a:chOff x="2882520" y="1219320"/>
              <a:chExt cx="772200" cy="92088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3154680" y="1219320"/>
                <a:ext cx="228600" cy="495360"/>
                <a:chOff x="3154680" y="1219320"/>
                <a:chExt cx="228600" cy="49536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3170880" y="1219320"/>
                  <a:ext cx="196560" cy="14112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269160" y="1360440"/>
                  <a:ext cx="0" cy="236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3" name=""/>
                <p:cNvGrpSpPr/>
                <p:nvPr/>
              </p:nvGrpSpPr>
              <p:grpSpPr>
                <a:xfrm>
                  <a:off x="3170520" y="1596960"/>
                  <a:ext cx="196920" cy="117720"/>
                  <a:chOff x="3170520" y="1596960"/>
                  <a:chExt cx="196920" cy="11772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 flipH="1">
                    <a:off x="3170520" y="1596960"/>
                    <a:ext cx="98280" cy="1177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3269160" y="1596960"/>
                    <a:ext cx="98280" cy="1177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6" name=""/>
                <p:cNvSpPr/>
                <p:nvPr/>
              </p:nvSpPr>
              <p:spPr>
                <a:xfrm>
                  <a:off x="3154680" y="145584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2882520" y="1893960"/>
                <a:ext cx="77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nkrach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921120" y="1087560"/>
              <a:ext cx="689040" cy="1052640"/>
              <a:chOff x="3921120" y="1087560"/>
              <a:chExt cx="689040" cy="1052640"/>
            </a:xfrm>
          </p:grpSpPr>
          <p:grpSp>
            <p:nvGrpSpPr>
              <p:cNvPr id="229" name=""/>
              <p:cNvGrpSpPr/>
              <p:nvPr/>
            </p:nvGrpSpPr>
            <p:grpSpPr>
              <a:xfrm>
                <a:off x="3921120" y="1087560"/>
                <a:ext cx="689040" cy="671400"/>
                <a:chOff x="3921120" y="1087560"/>
                <a:chExt cx="689040" cy="67140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3997440" y="1158840"/>
                  <a:ext cx="76320" cy="6001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4457880" y="1158840"/>
                  <a:ext cx="76320" cy="6001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3921120" y="1087560"/>
                  <a:ext cx="689040" cy="71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3950640" y="1893960"/>
                <a:ext cx="630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tuthou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4873680" y="743400"/>
              <a:ext cx="912240" cy="1396800"/>
              <a:chOff x="4873680" y="743400"/>
              <a:chExt cx="912240" cy="1396800"/>
            </a:xfrm>
          </p:grpSpPr>
          <p:sp>
            <p:nvSpPr>
              <p:cNvPr id="235" name=""/>
              <p:cNvSpPr/>
              <p:nvPr/>
            </p:nvSpPr>
            <p:spPr>
              <a:xfrm>
                <a:off x="4873680" y="1893960"/>
                <a:ext cx="912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ereedschap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6" name=""/>
              <p:cNvGrpSpPr/>
              <p:nvPr/>
            </p:nvGrpSpPr>
            <p:grpSpPr>
              <a:xfrm>
                <a:off x="4929840" y="743400"/>
                <a:ext cx="835920" cy="995400"/>
                <a:chOff x="4929840" y="743400"/>
                <a:chExt cx="835920" cy="995400"/>
              </a:xfrm>
            </p:grpSpPr>
            <p:sp>
              <p:nvSpPr>
                <p:cNvPr id="237" name=""/>
                <p:cNvSpPr/>
                <p:nvPr/>
              </p:nvSpPr>
              <p:spPr>
                <a:xfrm flipH="1">
                  <a:off x="5167800" y="906480"/>
                  <a:ext cx="334080" cy="780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H="1" flipV="1">
                  <a:off x="5068080" y="906840"/>
                  <a:ext cx="378720" cy="510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flipH="1">
                  <a:off x="4929840" y="817560"/>
                  <a:ext cx="242280" cy="179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8607600">
                  <a:off x="5375520" y="1371600"/>
                  <a:ext cx="313920" cy="303480"/>
                </a:xfrm>
                <a:custGeom>
                  <a:avLst/>
                  <a:gdLst/>
                  <a:ahLst/>
                  <a:rect l="l" t="t" r="r" b="b"/>
                  <a:pathLst>
                    <a:path w="363" h="499">
                      <a:moveTo>
                        <a:pt x="0" y="499"/>
                      </a:moveTo>
                      <a:lnTo>
                        <a:pt x="46" y="90"/>
                      </a:lnTo>
                      <a:cubicBezTo>
                        <a:pt x="76" y="7"/>
                        <a:pt x="137" y="0"/>
                        <a:pt x="182" y="0"/>
                      </a:cubicBezTo>
                      <a:cubicBezTo>
                        <a:pt x="227" y="0"/>
                        <a:pt x="288" y="7"/>
                        <a:pt x="318" y="90"/>
                      </a:cubicBezTo>
                      <a:lnTo>
                        <a:pt x="363" y="499"/>
                      </a:lnTo>
                      <a:lnTo>
                        <a:pt x="0" y="49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V="1" rot="6793800">
                  <a:off x="5427360" y="649800"/>
                  <a:ext cx="141480" cy="522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051600" y="1370160"/>
              <a:ext cx="880920" cy="770040"/>
              <a:chOff x="6051600" y="1370160"/>
              <a:chExt cx="880920" cy="770040"/>
            </a:xfrm>
          </p:grpSpPr>
          <p:sp>
            <p:nvSpPr>
              <p:cNvPr id="243" name=""/>
              <p:cNvSpPr/>
              <p:nvPr/>
            </p:nvSpPr>
            <p:spPr>
              <a:xfrm>
                <a:off x="6145560" y="1893960"/>
                <a:ext cx="692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ynami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4" name=""/>
              <p:cNvGrpSpPr/>
              <p:nvPr/>
            </p:nvGrpSpPr>
            <p:grpSpPr>
              <a:xfrm>
                <a:off x="6051600" y="1370160"/>
                <a:ext cx="880920" cy="220320"/>
                <a:chOff x="6051600" y="1370160"/>
                <a:chExt cx="880920" cy="22032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6051600" y="1370160"/>
                  <a:ext cx="556560" cy="14220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6606360" y="1406160"/>
                  <a:ext cx="252000" cy="106200"/>
                </a:xfrm>
                <a:custGeom>
                  <a:avLst/>
                  <a:gdLst/>
                  <a:ahLst/>
                  <a:rect l="l" t="t" r="r" b="b"/>
                  <a:pathLst>
                    <a:path w="680" h="138">
                      <a:moveTo>
                        <a:pt x="0" y="63"/>
                      </a:moveTo>
                      <a:cubicBezTo>
                        <a:pt x="26" y="24"/>
                        <a:pt x="53" y="21"/>
                        <a:pt x="96" y="7"/>
                      </a:cubicBezTo>
                      <a:cubicBezTo>
                        <a:pt x="131" y="10"/>
                        <a:pt x="168" y="0"/>
                        <a:pt x="200" y="15"/>
                      </a:cubicBezTo>
                      <a:cubicBezTo>
                        <a:pt x="215" y="22"/>
                        <a:pt x="207" y="49"/>
                        <a:pt x="216" y="63"/>
                      </a:cubicBezTo>
                      <a:cubicBezTo>
                        <a:pt x="243" y="103"/>
                        <a:pt x="323" y="99"/>
                        <a:pt x="360" y="103"/>
                      </a:cubicBezTo>
                      <a:cubicBezTo>
                        <a:pt x="413" y="138"/>
                        <a:pt x="604" y="135"/>
                        <a:pt x="680" y="135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flipH="1" flipV="1">
                  <a:off x="6801120" y="1429200"/>
                  <a:ext cx="42120" cy="52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flipV="1">
                  <a:off x="6869520" y="1407960"/>
                  <a:ext cx="2736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flipH="1">
                  <a:off x="6793920" y="1535760"/>
                  <a:ext cx="40320" cy="47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6867720" y="1538280"/>
                  <a:ext cx="29160" cy="52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6876720" y="1509840"/>
                  <a:ext cx="5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2" name=""/>
            <p:cNvGrpSpPr/>
            <p:nvPr/>
          </p:nvGrpSpPr>
          <p:grpSpPr>
            <a:xfrm>
              <a:off x="7197840" y="1193760"/>
              <a:ext cx="803160" cy="946440"/>
              <a:chOff x="7197840" y="1193760"/>
              <a:chExt cx="803160" cy="946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7197840" y="1193760"/>
                <a:ext cx="803160" cy="495360"/>
                <a:chOff x="7197840" y="1193760"/>
                <a:chExt cx="803160" cy="49536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7197840" y="1193760"/>
                  <a:ext cx="803160" cy="378360"/>
                </a:xfrm>
                <a:custGeom>
                  <a:avLst/>
                  <a:gdLst>
                    <a:gd name="textAreaLeft" fmla="*/ 113760 w 803160"/>
                    <a:gd name="textAreaRight" fmla="*/ 689400 w 803160"/>
                    <a:gd name="textAreaTop" fmla="*/ 53640 h 378360"/>
                    <a:gd name="textAreaBottom" fmla="*/ 324720 h 378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231" y="21600"/>
                      </a:lnTo>
                      <a:lnTo>
                        <a:pt x="2369" y="21600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7364160" y="1484640"/>
                  <a:ext cx="194040" cy="2044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641720" y="1484640"/>
                  <a:ext cx="194040" cy="2044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7" name=""/>
              <p:cNvSpPr/>
              <p:nvPr/>
            </p:nvSpPr>
            <p:spPr>
              <a:xfrm>
                <a:off x="7305480" y="1893960"/>
                <a:ext cx="587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ijnka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8266680" y="836640"/>
              <a:ext cx="1247400" cy="1303560"/>
              <a:chOff x="8266680" y="836640"/>
              <a:chExt cx="1247400" cy="1303560"/>
            </a:xfrm>
          </p:grpSpPr>
          <p:sp>
            <p:nvSpPr>
              <p:cNvPr id="259" name=""/>
              <p:cNvSpPr/>
              <p:nvPr/>
            </p:nvSpPr>
            <p:spPr>
              <a:xfrm>
                <a:off x="8266680" y="1893960"/>
                <a:ext cx="1247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andelsvergunnin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0" name=""/>
              <p:cNvGrpSpPr/>
              <p:nvPr/>
            </p:nvGrpSpPr>
            <p:grpSpPr>
              <a:xfrm>
                <a:off x="8564400" y="836640"/>
                <a:ext cx="650880" cy="955800"/>
                <a:chOff x="8564400" y="836640"/>
                <a:chExt cx="650880" cy="95580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8917920" y="1545120"/>
                  <a:ext cx="211680" cy="247320"/>
                </a:xfrm>
                <a:custGeom>
                  <a:avLst/>
                  <a:gdLst/>
                  <a:ahLst/>
                  <a:rect l="l" t="t" r="r" b="b"/>
                  <a:pathLst>
                    <a:path w="272" h="317">
                      <a:moveTo>
                        <a:pt x="0" y="0"/>
                      </a:moveTo>
                      <a:lnTo>
                        <a:pt x="0" y="317"/>
                      </a:lnTo>
                      <a:lnTo>
                        <a:pt x="136" y="226"/>
                      </a:lnTo>
                      <a:lnTo>
                        <a:pt x="272" y="317"/>
                      </a:lnTo>
                      <a:lnTo>
                        <a:pt x="27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8564400" y="836640"/>
                  <a:ext cx="650880" cy="742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8659800" y="1225800"/>
                  <a:ext cx="459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8659800" y="1332000"/>
                  <a:ext cx="459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8659800" y="1119600"/>
                  <a:ext cx="459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917920" y="1438920"/>
                  <a:ext cx="211680" cy="21204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9T08:08:07Z</dcterms:created>
  <dc:creator>Ruud en Sandra</dc:creator>
  <dc:description/>
  <dc:language>en-US</dc:language>
  <cp:lastModifiedBy>Eelco Last</cp:lastModifiedBy>
  <dcterms:modified xsi:type="dcterms:W3CDTF">2005-08-25T10:49:02Z</dcterms:modified>
  <cp:revision>12</cp:revision>
  <dc:subject/>
  <dc:title>Dia 1</dc:title>
</cp:coreProperties>
</file>